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D57-53D3-4672-951A-3A2CA33B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975-E2DD-4868-9A5A-ECF7A720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84D-7923-4D65-AD36-93D14B32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4C7-3ADC-43F6-B219-426A12E4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E87E-573F-4D83-A006-65AB27AD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FB2B-7F61-420D-B27B-0C009A1B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EBE5-2034-42C7-BCED-A54D304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E71-71D6-40CB-86DA-071A5916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CFF3-0680-4935-88A9-55DA422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2FDB-2A32-4912-8E26-3AB2AE4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FA7F-8876-4733-B9E3-CA2373D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CC6-8A01-4258-8E0B-F9F0C5B7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5F8-BE57-4902-B357-F99AD62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0579-4EAF-4F15-8ADC-A66D7B0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B780-AFE4-43D0-BF73-DACF856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C393-39E3-4C2A-8866-EC315C01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4049-BCF2-4123-BAE3-AE5C369D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D000-2C94-42F8-B09D-0F7FA5F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5479-468B-4F3F-B8F5-691BF01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475B-6E39-4767-B7CD-4D18B3B5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EEA3-F463-4502-9F08-FE6FCF63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88DE-FFE0-4E4C-BDB1-6BA8AD40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FE4-48F8-4C49-9FCB-743273F4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A165-0393-4EC6-A14E-055B12BE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4749-147C-4C46-921D-0406769F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FAA9-787B-47B6-8B2C-03AB03F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51C5-7171-43C0-ADD4-79BFBFD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3E44-9BC3-41AD-9FAC-83EA8D88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3C90-ADD4-4872-A7C0-30382BFC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A7CD-D2F1-4DBD-823D-5C6B5DA6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C6E5-42AB-4C76-B724-AE1BC2BA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06C8-896D-42D3-A415-648624C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BB46-AD9A-4717-B135-D2C4E8F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4DF-F1ED-4936-9967-78C1205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115C-D2E2-4EFE-B777-C68E630F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013D-54FE-45C8-B409-C6573EF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9A7E-F029-4BD8-80BB-5E2FFB4A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7823-504F-4F4E-A386-0C216A28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22D9-97C4-483D-9880-6A13A70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B390-A91D-46A6-B2A2-5ADF562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3452-E8FC-42A6-A9FE-B309A00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B633-08B8-450C-B25F-A5B7546B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0278-3571-4134-8423-5DEF5D38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84AD-713F-4C37-93E4-A864BCAD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3EE-9A2E-4A58-976C-2F7F1544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C73D-FD3B-401C-BBD1-E2E2A441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CD345-FB4D-452F-8729-32BD410C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9A4B-E744-46CA-894F-F546929D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F0BA-EF3D-4379-B6B1-BBB1E066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BD31-C3E8-43BD-9E4F-B843726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C8CC-A768-42B8-AB03-B3EC0AFD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3EBF-8DB8-457D-8B1E-62BB35B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2A26-B160-4CD7-98BB-D9054F3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05E3-70DE-42AB-B84C-685B46D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802F-449E-47D9-B87A-B377064A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839-3CD9-4E75-870A-3572B9B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8A19D-C4E0-4742-9028-0A31078A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557B-B65F-4236-BDCA-45B95844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7D04-43FD-4475-997B-4C3B05E8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61056-E3C8-4BB8-B383-20FA9602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202D-8B1C-43EA-865E-5390F3A3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0EB2-BDE5-4D5E-BA98-5F02A155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F7DF2-0585-4FF7-BD00-733173BF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00D81-565B-47FA-AF5C-C7161C0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6734-F788-48E4-8B8D-BEE4527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400F-4634-438D-835C-717A73C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FC0-2C5E-489B-8EEB-DEBA607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443A-285F-42F3-8CA2-7028CC0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8BED-1CFE-48F4-ADB0-9170DB53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8302-19F2-4074-81B4-12636BA2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BFC13-F27A-4515-AEA1-94097E5B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AB5E-5EFC-4EB8-AA3A-1FABEE0E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3EB8-0289-424B-9555-6921026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23C0-C364-423C-8037-2501081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6950-6307-499C-9345-674F079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A32B-6293-4C56-9107-4DCCCE50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6181B-8CA3-4EAD-83CB-D6E0A39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964-364D-497E-8E51-09DB242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6E2FB-252C-425D-B77D-7617A07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7E5D2-FE8C-438B-BC26-D5C5BB5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695B1-1715-43FA-AA27-76215196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0FAE2-67A3-4BAB-B28A-4914F281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CD55-27C0-4F48-80BE-E78445C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AE7-15D1-4C5D-B22D-CFF1FCAC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4FDE-BF1D-406C-8242-B1E26506046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DAC-60F5-4201-89C2-8C680374A92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763-0765-4442-8432-11C02792B29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F24C-30DE-41E1-A162-8D9B98005F6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41A-4C78-4874-BED4-70F87B41321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8CF-5DFA-4442-A24D-854F43874DB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F4D5-D562-4561-BA87-A1CA624384A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6997680" y="1816200"/>
            <a:ext cx="1701720" cy="48240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838080"/>
            <a:ext cx="82296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ile I___________ (play), everyon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sit) still and listened. I played the song without any mistakes. Then I _______ (wait) for them to call out the winner. When I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hear) my name, my hea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(beat) so quickly I thought I would stop breathing. I couldn’t believe it. I ______ (win)! 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e) the happiest day of my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980360" y="91440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7239960" y="9144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5791320" y="220968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315920" y="281952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5334480" y="35053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4191840" y="472428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7163640" y="47242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504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andara"/>
              </a:rPr>
              <a:t>Key phases of this uni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66560" y="1905120"/>
            <a:ext cx="68770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in the bathroom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浴室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in the kitchen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厨房里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cook dinner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煮晚餐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Pick up the phone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接电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walk down the street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沿街向下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503280" y="144792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He was sleeping late _______ someone kno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 the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B. whi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D.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_______ the police arrived, the alien left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B. Before          C. After         D.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_______ I was walking to school, I saw a cat clim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B. Whi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C. Before       D.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4464000" y="137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368360" y="29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368360" y="396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2514600" y="6094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Ⅰ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.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单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457200" y="380880"/>
            <a:ext cx="81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--What were you doing at this time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slee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B. sle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was sleep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. 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She was _______to hear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surprise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 surpri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surpris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D. su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514600" y="3352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76520" y="12193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395280" y="1773360"/>
            <a:ext cx="806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 we were talking in the class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eacher cam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_______ they got to the airport, it was 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_______ she was reading a book, the phone 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_______ I saw the boy, he was wearing a new c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_______ he was reading, he fell a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24000" y="765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Ⅱ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.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用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when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或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while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填空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971640" y="1773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0000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900000" y="3645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900000" y="4292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900000" y="49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7839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Search more information about Dr. Martin Luther king and discuss with your classmates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258920" y="907920"/>
            <a:ext cx="62755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Homework</a:t>
            </a:r>
            <a:r>
              <a:rPr b="0" lang="zh-CN" sz="4400" spc="-1" strike="noStrike">
                <a:solidFill>
                  <a:srgbClr val="073e87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What were you doing when the rainstorm c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2209680" y="4191120"/>
            <a:ext cx="49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lf Chec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01"/>
          <p:cNvPicPr/>
          <p:nvPr/>
        </p:nvPicPr>
        <p:blipFill>
          <a:blip r:embed="rId1"/>
          <a:stretch/>
        </p:blipFill>
        <p:spPr>
          <a:xfrm>
            <a:off x="2484360" y="1413000"/>
            <a:ext cx="3743280" cy="3816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380520" y="5638680"/>
            <a:ext cx="86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11:00 am last Sunday, I was in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125880" y="4348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0"/>
          <p:cNvPicPr/>
          <p:nvPr/>
        </p:nvPicPr>
        <p:blipFill>
          <a:blip r:embed="rId1"/>
          <a:stretch/>
        </p:blipFill>
        <p:spPr>
          <a:xfrm>
            <a:off x="2411280" y="765000"/>
            <a:ext cx="3880080" cy="3959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762120" y="502920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 was watching someone swimming 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1:10 am last Su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03"/>
          <p:cNvPicPr/>
          <p:nvPr/>
        </p:nvPicPr>
        <p:blipFill>
          <a:blip r:embed="rId1"/>
          <a:stretch/>
        </p:blipFill>
        <p:spPr>
          <a:xfrm>
            <a:off x="2268360" y="836640"/>
            <a:ext cx="3741840" cy="3816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83808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11:15 am last Sunday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06"/>
          <p:cNvPicPr/>
          <p:nvPr/>
        </p:nvPicPr>
        <p:blipFill>
          <a:blip r:embed="rId1"/>
          <a:stretch/>
        </p:blipFill>
        <p:spPr>
          <a:xfrm>
            <a:off x="2411280" y="836640"/>
            <a:ext cx="3881520" cy="39592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1828800" y="5181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11:20 am last Sunda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990720" y="1828800"/>
            <a:ext cx="73152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as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did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did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e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ere your friends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wa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do you remember this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1960" y="53352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a.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Make notes about an even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remember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82680" y="380880"/>
            <a:ext cx="78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. Fill in the blanks with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or while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609480" y="1066680"/>
            <a:ext cx="8001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was walking home from school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saw a strange light in the sky. But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pointed it out to my friend, it wen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______I told my older brother about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range light in the sky, he just laugh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d didn’t belie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_______ my brother was laughing,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levision news reported that other peop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d seen the light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297440" y="1143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087680" y="175248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915840" y="29718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145160" y="472428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83760" y="533520"/>
            <a:ext cx="85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. Fill in the blanks with the correct f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of the word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80880" y="1905120"/>
            <a:ext cx="853452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I____ (be) in the sixth grade, I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join) a piano competition. I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practice) for four hours every day and my piano teacher ________(come) three times a week to_______ (help) me. Then the big day finally _________ (arrive).  I _____ (be)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ervous when they _______ (call) my n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__ (go) up and_______ (start) to pl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277080" y="36576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934680" y="19051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jo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5562720" y="251460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rac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1753560" y="19810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134800" y="41911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905120" y="480060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716080" y="480060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4115520" y="533412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991440" y="5867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4419720" y="586728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49:07Z</dcterms:modified>
  <cp:revision>2</cp:revision>
  <dc:subject/>
  <dc:title>PowerPoint 演示文稿</dc:title>
</cp:coreProperties>
</file>